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3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7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8"/>
          <p:cNvSpPr/>
          <p:nvPr/>
        </p:nvSpPr>
        <p:spPr>
          <a:xfrm>
            <a:off x="0" y="6629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76C2-5D4B-41BC-943C-FE2366AE159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774720" y="3733920"/>
            <a:ext cx="64008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Facteurs génétiques associés au risque cardiovasculaire – comparaison entre sex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ing Biological Problems that require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25 Févri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600" spc="-1" strike="noStrike">
                <a:solidFill>
                  <a:srgbClr val="000000"/>
                </a:solidFill>
                <a:latin typeface="Arial"/>
              </a:rPr>
              <a:t>Pedro Marques-Vi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nstitut Universitaire de Médecine Sociale et Préven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Obésité et atteinte hépatique: effets génétiques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ing Biological Problems that require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25 Févri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600" spc="-1" strike="noStrike">
                <a:solidFill>
                  <a:srgbClr val="000000"/>
                </a:solidFill>
                <a:latin typeface="Arial"/>
              </a:rPr>
              <a:t>Pedro Marques-Vi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nstitut Universitaire de Médecine Sociale et Préven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Connaissances actuell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s sujets obèses présentent des atteintes hépatiques (stéatose/foie gras) indépendantes de la consommation d’al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’adiponutrine serait en partie responsable de cet e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l est possible que d’autres marqueurs génétiques soient également impliqu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635796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betologia. 2009 Jun;52(6):1056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éterminer les facteurs génétiques associés à l’atteinte hép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rmi les candidats obtenus en 1), vérifier s’ils présentent une interaction avec l’obé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ns une sous-étude, comparer les gènes entre les sujets obèses avec et sans atteinte hép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Données disponibles – étude CoLau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cli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exe, poids, taille, tour de taille, masse gr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Consommation hebdomadaire d’alc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rqueurs bi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Hépatiques: GGT, Palc, AST, 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utres: insuline, adiponectine, lept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gén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NPs génotypés et </a:t>
            </a:r>
            <a:r>
              <a:rPr b="0" i="1" lang="fr-CH" sz="2200" spc="-1" strike="noStrike">
                <a:solidFill>
                  <a:srgbClr val="000000"/>
                </a:solidFill>
                <a:latin typeface="Arial"/>
              </a:rPr>
              <a:t>in si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Connaissances actuell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s femmes ont un risque cardiovasculaire plus bas que les ho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 risque cardiovasculaire peut être évalué par plusieurs é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l a été montré que les résultats des GWAS concernant le risque cardiovasculaire sont différents selon le s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35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oS One. 2008;3(10):e3615. Epub 2008 Oct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1" descr="Chr_15_women.png"/>
          <p:cNvPicPr/>
          <p:nvPr/>
        </p:nvPicPr>
        <p:blipFill>
          <a:blip r:embed="rId1"/>
          <a:stretch/>
        </p:blipFill>
        <p:spPr>
          <a:xfrm>
            <a:off x="0" y="0"/>
            <a:ext cx="4572000" cy="3051000"/>
          </a:xfrm>
          <a:prstGeom prst="rect">
            <a:avLst/>
          </a:prstGeom>
          <a:ln w="0">
            <a:noFill/>
          </a:ln>
        </p:spPr>
      </p:pic>
      <p:pic>
        <p:nvPicPr>
          <p:cNvPr id="88" name="Image 2" descr="Chr_15_men.png"/>
          <p:cNvPicPr/>
          <p:nvPr/>
        </p:nvPicPr>
        <p:blipFill>
          <a:blip r:embed="rId2"/>
          <a:stretch/>
        </p:blipFill>
        <p:spPr>
          <a:xfrm>
            <a:off x="4357800" y="3071880"/>
            <a:ext cx="4572000" cy="30510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3"/>
          <p:cNvSpPr/>
          <p:nvPr/>
        </p:nvSpPr>
        <p:spPr>
          <a:xfrm>
            <a:off x="5960160" y="12952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e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4"/>
          <p:cNvSpPr/>
          <p:nvPr/>
        </p:nvSpPr>
        <p:spPr>
          <a:xfrm>
            <a:off x="1585800" y="43671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o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lèche gauche 5"/>
          <p:cNvSpPr/>
          <p:nvPr/>
        </p:nvSpPr>
        <p:spPr>
          <a:xfrm>
            <a:off x="5143680" y="1314360"/>
            <a:ext cx="785520" cy="4287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bbe0e3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èche gauche 6"/>
          <p:cNvSpPr/>
          <p:nvPr/>
        </p:nvSpPr>
        <p:spPr>
          <a:xfrm flipH="1">
            <a:off x="2928240" y="438624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apèze 7"/>
          <p:cNvSpPr/>
          <p:nvPr/>
        </p:nvSpPr>
        <p:spPr>
          <a:xfrm>
            <a:off x="1500120" y="571680"/>
            <a:ext cx="357120" cy="1500120"/>
          </a:xfrm>
          <a:custGeom>
            <a:avLst/>
            <a:gdLst>
              <a:gd name="textAreaLeft" fmla="*/ 59400 w 357120"/>
              <a:gd name="textAreaRight" fmla="*/ 297720 w 357120"/>
              <a:gd name="textAreaTop" fmla="*/ 249840 h 1500120"/>
              <a:gd name="textAreaBottom" fmla="*/ 1500480 h 1500120"/>
            </a:gdLst>
            <a:ahLst/>
            <a:rect l="textAreaLeft" t="textAreaTop" r="textAreaRight" b="textAreaBottom"/>
            <a:pathLst>
              <a:path w="357190" h="1500198">
                <a:moveTo>
                  <a:pt x="0" y="1500198"/>
                </a:moveTo>
                <a:lnTo>
                  <a:pt x="89298" y="0"/>
                </a:lnTo>
                <a:lnTo>
                  <a:pt x="267893" y="0"/>
                </a:lnTo>
                <a:lnTo>
                  <a:pt x="357190" y="1500198"/>
                </a:lnTo>
                <a:close/>
              </a:path>
            </a:pathLst>
          </a:custGeom>
          <a:solidFill>
            <a:srgbClr val="bbe0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dentifier les déterminants génétiques du risque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cc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ur chaque sexe sépar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cc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ur les deux sexes ensem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t comparer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ns un échantillon représentatif de la population lausannoise (étude CoLa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Données disponibles – étude CoLau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cliniques et bi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exe, poids, tail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Traitement médicamente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isque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Équations Framingham et SCORE (autres possi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gén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NPs génotypés et </a:t>
            </a:r>
            <a:r>
              <a:rPr b="0" i="1" lang="fr-CH" sz="2200" spc="-1" strike="noStrike">
                <a:solidFill>
                  <a:srgbClr val="000000"/>
                </a:solidFill>
                <a:latin typeface="Arial"/>
              </a:rPr>
              <a:t>in si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Facteurs génétiques associés au risque de diabète – comparaison entre sex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ing Biological Problems that require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25 Févri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600" spc="-1" strike="noStrike">
                <a:solidFill>
                  <a:srgbClr val="000000"/>
                </a:solidFill>
                <a:latin typeface="Arial"/>
              </a:rPr>
              <a:t>Pedro Marques-Vi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Institut Universitaire de Médecine Sociale et Préven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Connaissances actuell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 risque de diabète peut être évalué par plusieurs é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l est actuellement inconnu si ce risque est dépendant de facteurs génétiques, ou s’il existe des différences entre s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35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 Int Med 2009 Jun;150(11): 741-7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Objectif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dentifier les déterminants génétiques du risque de diab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cc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ur chaque sexe sépar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cc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our les deux sexes ensem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t comparer les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ns un échantillon représentatif de la population lausannoise (étude CoLa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Données disponibles – étude CoLau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cliniques et bi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exe, poids, tail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Traitement médicamente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isque de diab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Équations Framingham, ARIC et DES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nnées gén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NPs génotypés et </a:t>
            </a:r>
            <a:r>
              <a:rPr b="0" i="1" lang="fr-CH" sz="2200" spc="-1" strike="noStrike">
                <a:solidFill>
                  <a:srgbClr val="000000"/>
                </a:solidFill>
                <a:latin typeface="Arial"/>
              </a:rPr>
              <a:t>in si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8:14:49Z</dcterms:created>
  <dc:creator>MMaeder</dc:creator>
  <dc:description/>
  <dc:language>en-US</dc:language>
  <cp:lastModifiedBy>Pedro Marques-Vidal</cp:lastModifiedBy>
  <dcterms:modified xsi:type="dcterms:W3CDTF">2010-02-25T14:38:58Z</dcterms:modified>
  <cp:revision>73</cp:revision>
  <dc:subject/>
  <dc:title>Présentation PowerPoint</dc:title>
</cp:coreProperties>
</file>